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35A-C22F-49F5-B402-AD5B213F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02A-DC5E-4CDD-9FF3-3757E01A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ADA-A926-4A60-9A6A-F5071347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4EA-A20C-417B-A9AF-9695D8C8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4602-31D2-4690-AE31-6277E0D3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4CFD-3CC3-47E6-BBA2-2C779904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CB2A-1A5C-4345-82C0-700EBE2D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F2EE-FE8E-4416-9401-F136BCB6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5C00-C5CE-458A-83E9-36FCADD1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E03D-6804-4376-8A69-9F9AF7C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4518-41C7-4BF5-9066-8279EF1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B43-0883-479B-9F72-9D0FEB35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B044-7719-4D8E-9870-737C990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46A5-356C-48B4-B48B-A3B8B19D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CBE0-D6FF-43F0-BD8F-2CF762CC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CAEA-802D-4064-ABD2-CA632263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A8A9-4FB8-49C2-BE00-27A90ABD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B57-5E24-49C6-84FD-40F11B74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DC8-8C10-4500-82B3-B38B05CE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065-5CB9-43D0-9C64-4E68ABD2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5A5-7AD4-43DA-8069-D729744B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096-AFEB-4364-A137-5C1B7C8E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EAF-D5BF-4A7F-9E03-3709267D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41F-6B73-4565-9DC2-C511586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08D1-5FAB-4351-A4D4-DE37787D9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12F2-9AA0-48D0-A6DF-C1D3D58C5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goodseats.com/images/carlos-santana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ochoblog.com/assets/2010/02/ritchie-valens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talentwest.com/entertain/actors/images/BuddyHolly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aaronrodrecordings.com/wp-content/uploads/2010/01/elvis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vinylrevinyl.com/wp-content/uploads/2008/10/dean-martin.jpg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nylrevinyl.com/wp-content/uploads/2008/10/dean-marti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allmusic.com/" TargetMode="External"/><Relationship Id="rId5" Type="http://schemas.openxmlformats.org/officeDocument/2006/relationships/hyperlink" Target="http://www.allmusic.com/" TargetMode="External"/><Relationship Id="rId6" Type="http://schemas.openxmlformats.org/officeDocument/2006/relationships/hyperlink" Target="http://www.allmusic.com/" TargetMode="External"/><Relationship Id="rId7" Type="http://schemas.openxmlformats.org/officeDocument/2006/relationships/hyperlink" Target="http://www.allgoodseats.com/images/carlos-santana.jpg" TargetMode="External"/><Relationship Id="rId8" Type="http://schemas.openxmlformats.org/officeDocument/2006/relationships/hyperlink" Target="http://www.pochoblog.com/assets/2010/02/ritchie-valens.jpg" TargetMode="External"/><Relationship Id="rId9" Type="http://schemas.openxmlformats.org/officeDocument/2006/relationships/hyperlink" Target="http://www.talentwest.com/entertain/actors/buddy.htm" TargetMode="External"/><Relationship Id="rId10" Type="http://schemas.openxmlformats.org/officeDocument/2006/relationships/hyperlink" Target="http://www.talentwest.com/entertain/actors/buddy.htm" TargetMode="External"/><Relationship Id="rId11" Type="http://schemas.openxmlformats.org/officeDocument/2006/relationships/hyperlink" Target="http://aaronrodrecordings.com/?p=4" TargetMode="External"/><Relationship Id="rId12" Type="http://schemas.openxmlformats.org/officeDocument/2006/relationships/hyperlink" Target="http://aaronrodrecordings.com/?p=4" TargetMode="External"/><Relationship Id="rId13" Type="http://schemas.openxmlformats.org/officeDocument/2006/relationships/hyperlink" Target="http://aaronrodrecordings.com/?p=4" TargetMode="External"/><Relationship Id="rId14" Type="http://schemas.openxmlformats.org/officeDocument/2006/relationships/hyperlink" Target="http://www.vinylrevinyl.com/.../jazz-vinyl/dean-martin/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goodseats.com/images/carlos-santan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choblog.com/assets/2010/02/ritchie-valen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alentwest.com/entertain/actors/images/BuddyHolly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aronrodrecordings.com/wp-content/uploads/2010/01/elvi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4114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Corey McDonough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533520"/>
            <a:ext cx="6324480" cy="118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rtists Influen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20770200">
            <a:off x="609120" y="1980720"/>
            <a:ext cx="2057400" cy="191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20663400">
            <a:off x="991080" y="3962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los Sant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523880"/>
            <a:ext cx="1581120" cy="1981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760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chie Val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 rot="571200">
            <a:off x="6095880" y="1752120"/>
            <a:ext cx="2373480" cy="196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4191120"/>
            <a:ext cx="1535400" cy="1981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591600">
            <a:off x="6400440" y="3809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ddy Ho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172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vis Pres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00600" y="4191120"/>
            <a:ext cx="158436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76920" y="6172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 Mar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1981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Dean Martin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3352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54860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eel sorry for people who don't drink. They wake up in the morning and that's the best they're going to feel all day.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95480" y="457200"/>
            <a:ext cx="30099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an Mart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47920"/>
            <a:ext cx="8001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July 17, 19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birth name was Dino Paul Croc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boxer as a kid until the age of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iving boxing up he worked as a stock b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ang with local bands and called him self “Dino Matin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major star in four areas of show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ings, Concerts, TV shows, and Motion Pi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most famous for his songs “That’s Amore”, and “A   Mamb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inducted into the Hit Parade Hall of Fame in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on December 25, 1995 in Beverly Hills, Califo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895480" y="380880"/>
            <a:ext cx="311472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ibliograp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o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5200" y="13708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wikipedia.org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4480" y="175176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www.allmusic.com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s Fro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92120" y="2513880"/>
            <a:ext cx="58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867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http://www.allgoodseats.com/images/carlos-santan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7242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44197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92480" y="2894760"/>
            <a:ext cx="62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http://www.pochoblog.com/assets/2010/02/ritchie-valen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9240" y="3276000"/>
            <a:ext cx="56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867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www.talentwest.com/entertain/actors/buddy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9600" y="4037760"/>
            <a:ext cx="38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http://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aronrodrecordings.com/?p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=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0680" y="36568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www.vinylrevinyl.com/.../jazz-vinyl/dean-martin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9240" y="4647600"/>
            <a:ext cx="46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hinkexist.com/quotes/carlos_santana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502884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imdb.com/title/tt0093378/qu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9240" y="5409360"/>
            <a:ext cx="46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imdb.com/title/tt0093378/quo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92120" y="5790600"/>
            <a:ext cx="66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brainyquote.com/quotes/authors/e/elvis_presle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9240" y="6171480"/>
            <a:ext cx="44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hinkexist.com/quotes/dean_martin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6668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Carlos Santa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57200"/>
            <a:ext cx="5943600" cy="48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570600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songs are just like tattoos for your brain... you hear them and they're affixed to you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in Jalisco, Mexico as Carlos Augusto Alves Santana on July 20th, 194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age of 5, Carlos was taught how to play the violin, and guitar by his f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to become a famous rock guitar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band “Santana” became famous in the late 1960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lays mix of music that includes Rock, Latin Rock, Blues Rock, Funk, and  Jaz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time Grammy wi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 young age Carlos was heavily influenced by Ritchie Valens – a rock and roll artist, and a forefather of the Chicano Rock Movem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09680" y="380880"/>
            <a:ext cx="495324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rlos Santan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28191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Ritchie Valens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380880"/>
            <a:ext cx="3830400" cy="4800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56214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mom reckons I'm going to be a star. And stars don't fall from the sk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007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on May 13, 1941 as Ricardo Esteban Valenzuela R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xican-America singer, song writer, and guita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most famous during the Chicano Rock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 hall of fame in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kid he heard a lot of mariachi music, native to Me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eager to learn how to play the gu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guitarist in a band called The Silhout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most famous for his song “La Bamb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most influenced by one of his fellow musicians, Buddy Ho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oth died in a plane crash on February 3, 195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194400">
            <a:off x="2286000" y="456840"/>
            <a:ext cx="495288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23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tchie Vale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2666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Buddy Holly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380880"/>
            <a:ext cx="5334120" cy="4405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5257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The sky belongs to the star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8007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on September, 7 1936 as Charles Hardin Ho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w up in Texas, and was given the nickname Buddy by his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inger song wri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oneer of rock and ro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quoted as “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e single most influential creative force in early rock and rol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ed to the Rock and Roll Hall of Fame in 19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most influenced by Elvis Pres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d in a plane crash with fellow musician Ritchie Valens on February 3, 19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971800" y="457200"/>
            <a:ext cx="3114720" cy="9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ddy Holl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28954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Elvis Presley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04920"/>
            <a:ext cx="4842000" cy="5105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5866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tion is a dream with a V8 engin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n January,8 1935 as Elvis Aaron Pres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the most popular American singer during the 20th cent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known as “the King of Rock and Roll” or “the K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un Records owner Sam Phillips potential in Presley it was destine to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ley recorded his first record at the age of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later went to serve in the mili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making several television appearances Presley was the new leading figure of Rock and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lis was most influenced by Dean Mar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n 3 competitive Grammy awards, and was inducted into four different hall of f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August 16, 19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95480" y="533520"/>
            <a:ext cx="33433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vis Presle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9:55:16Z</dcterms:created>
  <dc:creator>comcdonough6</dc:creator>
  <dc:description/>
  <dc:language>en-US</dc:language>
  <cp:lastModifiedBy>comcdonough6</cp:lastModifiedBy>
  <dcterms:modified xsi:type="dcterms:W3CDTF">2010-11-22T16:19:01Z</dcterms:modified>
  <cp:revision>8</cp:revision>
  <dc:subject/>
  <dc:title>Corey McDonough English 4B</dc:title>
</cp:coreProperties>
</file>